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A8C70C-499D-4C53-B208-AE1868AC6E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C87392-7D92-40CC-8671-A4A3578FBF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DE6DF7-D3C3-4CEA-BBBE-84256C97DF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F43B3A-CC4A-4875-A892-D3916C71B8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AF9396-DB09-4D7A-8B50-DE6E8516F7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8DF811-DE78-42C7-885C-6369CADB0F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5EF0D1-33D6-445E-88B8-668B604D37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0D7477-3C6C-4196-9FB8-9A1E2A414A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0ACD04-F9C5-41D2-AB8E-EF6C0FA56D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895435-17BC-4AF9-8D23-819F547EF5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7A990E-50BF-40A6-A0B0-763246AAF2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D34079-2295-4A8A-8A6F-53BB2E53FE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DF8356-2C35-41BA-B618-3DFFBA1C42A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hyperlink" Target="http://www.ccsso.org/content/pdfs/corestrd.pdf"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t>
            </a:r>
            <a:r>
              <a:rPr b="0" i="1" lang="en-US" sz="2000" spc="-1" strike="noStrike">
                <a:solidFill>
                  <a:srgbClr val="000000"/>
                </a:solidFill>
                <a:latin typeface="Arial"/>
              </a:rPr>
              <a:t>Outliers:</a:t>
            </a:r>
            <a:r>
              <a:rPr b="0" lang="en-US" sz="2000" spc="-1" strike="noStrike">
                <a:solidFill>
                  <a:srgbClr val="000000"/>
                </a:solidFill>
                <a:latin typeface="Arial"/>
              </a:rPr>
              <a:t> Malcolm Gladwell's Success Story." by </a:t>
            </a:r>
            <a:r>
              <a:rPr b="1" lang="en-US" sz="2000" spc="-1" strike="noStrike">
                <a:solidFill>
                  <a:srgbClr val="000000"/>
                </a:solidFill>
                <a:latin typeface="Arial"/>
              </a:rPr>
              <a:t>Lev Grossman, Time Magazine.</a:t>
            </a:r>
            <a:r>
              <a:rPr b="0" lang="en-US" sz="2000" spc="-1" strike="noStrike">
                <a:solidFill>
                  <a:srgbClr val="000000"/>
                </a:solidFill>
                <a:latin typeface="Arial"/>
              </a:rPr>
              <a:t> Thursday, Nov. 13, 2008.)</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55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Gladwell's goal is to adjust our understanding of how people like that get to where they are. Instead of the Horatio Alger story of success — a gifted child who through heroic striving within a meritocratic system becomes a successful (rich, famous, fill in your life goal here) adult — Outliers tells a story about the context in which success takes place: family, culture, friendship, childhood, accidents of birth and history and geography. "It's not enough to ask what successful people are like," Gladwell writes. "It is only by asking where they are from that we can unravel the logic behind who succeeds and who doesn't." Outliers is, in its genteel Gladwellian way, a frontal assault on the great American myth of the self-made man." </a:t>
            </a:r>
            <a:endParaRPr b="0" lang="en-US" sz="1400" spc="-1" strike="noStrike">
              <a:solidFill>
                <a:srgbClr val="000000"/>
              </a:solidFill>
              <a:latin typeface="Arial"/>
            </a:endParaRPr>
          </a:p>
          <a:p>
            <a:pPr marL="343080" indent="0">
              <a:lnSpc>
                <a:spcPct val="15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 </a:t>
            </a:r>
            <a:r>
              <a:rPr b="1" lang="en-US" sz="1800" spc="-1" strike="noStrike">
                <a:solidFill>
                  <a:srgbClr val="000000"/>
                </a:solidFill>
                <a:latin typeface="Arial"/>
              </a:rPr>
              <a:t>Reforms to improve teacher quality, such as the Interstate New Teacher Assessment and Support Consortium. </a:t>
            </a:r>
            <a:r>
              <a:rPr b="0" lang="en-US" sz="1800" spc="-1" strike="noStrike">
                <a:solidFill>
                  <a:srgbClr val="000000"/>
                </a:solidFill>
                <a:latin typeface="Arial"/>
              </a:rPr>
              <a:t> </a:t>
            </a:r>
            <a:br>
              <a:rPr sz="1800"/>
            </a:br>
            <a:endParaRPr b="0" lang="en-US" sz="18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web-site </a:t>
            </a:r>
            <a:r>
              <a:rPr b="0" lang="en-US" sz="2400" spc="-1" strike="noStrike" u="sng">
                <a:solidFill>
                  <a:srgbClr val="ff5050"/>
                </a:solidFill>
                <a:uFillTx/>
                <a:latin typeface="Arial"/>
                <a:hlinkClick r:id="rId1"/>
              </a:rPr>
              <a:t>http://www.ccsso.org/content/pdfs/corestrd.pdf</a:t>
            </a:r>
            <a:r>
              <a:rPr b="0" lang="en-US" sz="2400" spc="-1" strike="noStrike" u="sng">
                <a:solidFill>
                  <a:srgbClr val="000000"/>
                </a:solidFill>
                <a:uFillTx/>
                <a:latin typeface="Arial"/>
              </a:rPr>
              <a:t>)</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The standards were developed in response to the five major propositions that guide the National Board's standard-setting and assessment work.”</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Teachers are committed to students and their learning.</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Teachers know the subjects they teach and how to teach those subjects to</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verse learner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Teachers are responsible for managing and monitoring student learning.</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 Teachers think systematically about their practice and learn from</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erienc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Teachers are members of learning communiti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cket out the door response (</a:t>
            </a:r>
            <a:r>
              <a:rPr b="0" lang="en-US" sz="2000" spc="-1" strike="noStrike">
                <a:solidFill>
                  <a:srgbClr val="ff0066"/>
                </a:solidFill>
                <a:latin typeface="Arial"/>
              </a:rPr>
              <a:t>formative assessment</a:t>
            </a:r>
            <a:r>
              <a:rPr b="0" lang="en-US" sz="2000" spc="-1" strike="noStrike">
                <a:solidFill>
                  <a:srgbClr val="000000"/>
                </a:solidFill>
                <a:latin typeface="Arial"/>
              </a:rPr>
              <a:t>):</a:t>
            </a:r>
            <a:br>
              <a:rPr sz="2000"/>
            </a:br>
            <a:endParaRPr b="0" lang="en-US" sz="20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is class, have you clarified or changed your reasons for wanting to be a teacher? Explain.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you articulate a blueprint principle for yourself?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you identify a challenge or benefit in the current educational context you will soon enter?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ponse to proposals to reform secondary 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ponse to to high-stakes testing and teacher accountability based on scores?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aborate on a strengths or challenges you may possess, based on the INTASC standard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en-US" sz="2400" spc="-1" strike="noStrike">
                <a:solidFill>
                  <a:srgbClr val="ff5050"/>
                </a:solidFill>
                <a:latin typeface="Arial"/>
              </a:rPr>
              <a:t>What attracts people to teaching? </a:t>
            </a:r>
            <a:br>
              <a:rPr sz="2400"/>
            </a:br>
            <a:r>
              <a:rPr b="1" lang="en-US" sz="2400" spc="-1" strike="noStrike">
                <a:solidFill>
                  <a:srgbClr val="ff5050"/>
                </a:solidFill>
                <a:latin typeface="Arial"/>
              </a:rPr>
              <a:t>The top 5:</a:t>
            </a:r>
            <a:br>
              <a:rPr sz="2000"/>
            </a:br>
            <a:endParaRPr b="0" lang="en-US" sz="2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Making a contribution to society (52%) of teachers cite this as a major reason for entering the profess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some creative freedom;</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 working with academic content – continuing to study a subject you love and inspiring others to love the subject as wel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 helping students develop as individual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 being rewarded for good performanc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nsions between traditions</a:t>
            </a:r>
            <a:endParaRPr b="0" lang="en-US" sz="28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eter/Andover (classics!) vs. middle class merchants (practical lesson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ff5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5050"/>
                </a:solidFill>
                <a:latin typeface="Arial"/>
              </a:rPr>
              <a:t>1821:</a:t>
            </a:r>
            <a:r>
              <a:rPr b="0" lang="en-US" sz="1800" spc="-1" strike="noStrike">
                <a:solidFill>
                  <a:srgbClr val="000000"/>
                </a:solidFill>
                <a:latin typeface="Arial"/>
              </a:rPr>
              <a:t> The first public high school - useful and practical subjects vs. classic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ff5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5050"/>
                </a:solidFill>
                <a:latin typeface="Arial"/>
              </a:rPr>
              <a:t>1874 </a:t>
            </a:r>
            <a:r>
              <a:rPr b="0" lang="en-US" sz="1800" spc="-1" strike="noStrike">
                <a:solidFill>
                  <a:srgbClr val="000000"/>
                </a:solidFill>
                <a:latin typeface="Arial"/>
              </a:rPr>
              <a:t>( Stuart v. School District No. 1 of the Village of Kalamazoo), which supported the right of state legislatures to levy local taxes to support schools. Rapid expansion of secondary schools results.</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ff5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5050"/>
                </a:solidFill>
                <a:latin typeface="Arial"/>
              </a:rPr>
              <a:t>1890:</a:t>
            </a:r>
            <a:r>
              <a:rPr b="0" lang="en-US" sz="1800" spc="-1" strike="noStrike">
                <a:solidFill>
                  <a:srgbClr val="000000"/>
                </a:solidFill>
                <a:latin typeface="Arial"/>
              </a:rPr>
              <a:t> Committee of Ten (NEA) advocates a study of the classics (Greek, Latin, Math, rhetoric, etc.) all high school should be devoted to higher education.</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ff5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5050"/>
                </a:solidFill>
                <a:latin typeface="Arial"/>
              </a:rPr>
              <a:t>1920: </a:t>
            </a:r>
            <a:r>
              <a:rPr b="0" lang="en-US" sz="1800" spc="-1" strike="noStrike">
                <a:solidFill>
                  <a:srgbClr val="000000"/>
                </a:solidFill>
                <a:latin typeface="Arial"/>
              </a:rPr>
              <a:t> Rise of immigration, child labor laws, multi-languages used in classrooms (until WWI). NEA suggests the comprehensive high school: health, social values, home membership, vocations, citizenship, worthy use of leisure time, ethic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unior High vs. Middle School</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unior high (early 1900s, miniature high schools with academic focus)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ff0066"/>
                </a:solidFill>
                <a:latin typeface="Arial"/>
              </a:rPr>
              <a:t>v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ddle school (1960s, focus on the emotional and developmental needs of students 11 -14).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Reform Proposals:</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rown v. Board of Education of Topeka 1954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utnik, 1957 and the National Defense Education Act (1958) – discipline centered, emphasis on math and science -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Nation at Risk (1983). “Schools are failing and this threatens the survival of the n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o Child Left Behind</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CLB (2002): All students will graduate from high school, all will attain proficiency in reading and math, including students with disabilities and ELL, all students will be taught by highly qualified teachers. These goals are measured by rigorous testing of students every year from grades 3 through 8 in reading, math, science.  Schools that don’t measure up must inform parents and community, allowing students to transfer schools, add supplemental services such as tutoring and enrichment, replace teachers and staff, employ outside “experts” and/or institute alternative school governanc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CLB</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ow will NCLB influence your teaching life (how you design curriculum and assessment)? How will it influence the school in which you choose to teac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tandards-Based Education</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Clear educational standards can help teachers conceptualize the essential elements of a subject that should be taught to students. They can be useful in planning. . . .Standards are viewed as comprehensive, reliable guides” (p. 21). NCLB requires states to set content standards to guide curriculum.</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Arial"/>
              </a:rPr>
              <a:t> “</a:t>
            </a:r>
            <a:r>
              <a:rPr b="0" lang="en-US" sz="2800" spc="-1" strike="noStrike">
                <a:solidFill>
                  <a:srgbClr val="ff0066"/>
                </a:solidFill>
                <a:latin typeface="Arial"/>
              </a:rPr>
              <a:t>Targe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igh Stakes Testing</a:t>
            </a:r>
            <a:r>
              <a:rPr b="0" lang="en-US" sz="1800" spc="-1" strike="noStrike">
                <a:solidFill>
                  <a:srgbClr val="000000"/>
                </a:solidFill>
                <a:latin typeface="Arial"/>
              </a:rPr>
              <a:t>  has serious, important consequences tied to test results for students, teachers, and schools. </a:t>
            </a:r>
            <a:br>
              <a:rPr sz="1800"/>
            </a:br>
            <a:br>
              <a:rPr sz="1800"/>
            </a:br>
            <a:r>
              <a:rPr b="0" lang="en-US" sz="1800" spc="-1" strike="noStrike">
                <a:solidFill>
                  <a:srgbClr val="33cccc"/>
                </a:solidFill>
                <a:latin typeface="Arial"/>
              </a:rPr>
              <a:t>Tests are designed by national testing companies.</a:t>
            </a:r>
            <a:br>
              <a:rPr sz="1800"/>
            </a:br>
            <a:endParaRPr b="0" lang="en-US" sz="18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blems with high stakes testing (AERA, 2000):</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Decisions that have important educational consequences should not be based only on the basis of test score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The content tested must be incorporated into the curriculum and the materials prior to administering the test to student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High – stakes tests should not be limited to the portion of the curriculum that is easiest to measur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ound procedures must be followed in establishing proficiency levels and passing score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The validity of tests needs to be established and reported.</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Attention needs to be given to language differences and students with disabilitie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The reliability or the precision of the test scores must be established.</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The intended and unintended consequences of high –stakes tests needs to be subjected to ongoing evalua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29T15:55:23Z</dcterms:created>
  <dc:creator>HP Authorized Customer</dc:creator>
  <dc:description/>
  <dc:language>en-US</dc:language>
  <cp:lastModifiedBy>HP Authorized Customer</cp:lastModifiedBy>
  <dcterms:modified xsi:type="dcterms:W3CDTF">2009-08-29T16:22:18Z</dcterms:modified>
  <cp:revision>27</cp:revision>
  <dc:subject/>
  <dc:title>(from "Outliers: Malcolm Gladwell's Success Story." by Lev Grossman, Time Magazine. Thursday, Nov. 13, 2008.)   Gladwell's goal is to adjust our understanding of how people like that get to where they are. Instead of the Horatio Alger story of success — a gifted child who through heroic striving within a meritocratic system becomes a successful (rich, famous, fill in your life goal here) adult — Outliers tells a story about the context in which success takes place: family, culture, friendship, childhood, accidents of birth and history and geography. "It's not enough to ask what successful people are like," Gladwell writes. "It is only by asking where they are from that we can unravel the logic behind who succeeds and who doesn't." Outliers is, in its genteel Gladwellian way, a frontal assault on the great American myth of the self-made man." </dc:title>
</cp:coreProperties>
</file>